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586F7-6F58-411E-BDE8-36096E2DF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D95AA-CC00-4453-B7CB-9ABB93E4A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0CF79A-D148-49B9-AEF7-8EE49FCEB9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6B39C8-E1D9-4E23-BDBD-C3B0DB5800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809163-84FF-4400-8F10-CAA7EE8F97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9A6ABE-9E84-4FAC-B957-8617475F09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4AFD6B-60A7-48C7-B8C5-EE202AFAAC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7E46CD-4CE4-42F0-B37B-00B27CA7CD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C692D7-BD08-47C8-AC3D-458A7A34E9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3B359C-8BBD-4782-9E6C-A0DD09B24C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91EFC9-EA98-4758-85DA-29B362D902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42EFCE0-0896-4D83-ACE4-755E894AF5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DFE7C-C76C-45E2-89A1-06CDB4110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2472BC4-F261-4AC7-9C3A-B985F2F0CE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C9E6553-A88C-4F3F-8B22-7776B3B6E5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1EB341F-FD5C-41EF-BBF0-D6105D56C4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720F545-BD08-4C5D-8D87-B46A214A04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B9FFC24-C1E5-4E40-A4CB-4E247A63E0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6C8A5FF-48D9-46BE-87B8-216D4756D7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6DE1A27-CFE5-4272-9A77-9CAF4C46F9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882D5CE-A00C-4D96-8BAD-F7170B155F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FFFD97B-8ADF-4380-BCE3-B7D8890231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7088D7C-1EB4-4705-8845-42B6268F42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4581E-C04C-48E9-B0AB-8D71B9F18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DE0EC99-D065-4143-9768-70437AAC61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BDB512FF-5047-4552-83D8-F440F140A4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4CE26DA5-3D0B-4B7B-8B97-07B4327B00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5200693F-5111-4DAD-994B-E9CD4E1F7C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7B46F697-4F7A-4E47-BF86-2C34BDE4F2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30F540F-C5DD-47E8-A35E-54F9263E91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F638E1BC-5061-4D5E-9FE1-874F8F0343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BFADBC23-FE28-4BBF-B1DF-DA63BDD764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2A94E99A-124C-4006-98D9-59BE8FEFA3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44481C0-79BD-4600-8645-BCEBF0FD5E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BBDC4-BEF5-4885-A4CF-2FF63DA84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6682CECF-EC45-4B1F-A2BC-E98F5D923E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150C6F2D-2B4E-4A9F-AEBD-99E6DC897CE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5C103CAF-9AEC-4A88-B0E6-1FBC9D61FB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56D4CEF-569C-4DE4-9A99-0F56E17490C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0AD490-F90B-4CD7-983B-F085274007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F839D6-64BA-48AA-8D7F-FBBDD1E248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6BAB96-6184-4AD4-B07C-A5AE8E92C3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F6E44A-608E-4CB0-8967-17B8DD95E9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3C5452-2CAA-4A6C-B6DA-0016B30CDC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431A63-B0BA-46D9-960B-B7E31ADFC2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4DE7C-04E0-4917-A126-FA9627D2F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23D4FE-3E4F-47F7-BE0F-99581AB6EE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F9BE4C-A0E6-4F12-83AA-5F31AECF9F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20F8B1-1A04-4B3B-BD1F-A68AC34CCD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D8856F-ABBE-4FBE-8D1D-1019B26A6D3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E3EE25B-C683-4D1B-8579-FEC41D959CC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7"/>
          </p:nvPr>
        </p:nvSpPr>
        <p:spPr/>
        <p:txBody>
          <a:bodyPr/>
          <a:p>
            <a:fld id="{74493848-B290-4E9C-AB86-C105994EB8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B37AA1E3-99EE-4C1B-B2F4-34481B8B8D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C2771ADB-A250-451C-BADE-476506722C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214844CD-7C90-4DCC-8C2B-086CC6AE3A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556E4607-9E1B-4341-AC0E-9A1F794B53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CB755-073C-4A49-B836-AA2D7C218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EC8F63F6-D94F-4FF9-B998-26EEC810BF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6579E0E2-8481-4BCB-BF3D-ED12C9496E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793AE8E6-15C0-4F44-AE57-117C2C5D79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7E769185-435D-489D-AB68-42BBAEF65E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1BF7257F-DF85-440C-B051-ADABCA1732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7"/>
          </p:nvPr>
        </p:nvSpPr>
        <p:spPr/>
        <p:txBody>
          <a:bodyPr/>
          <a:p>
            <a:fld id="{AC8DB208-F058-49BF-A4D1-31A5C481E9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7"/>
          </p:nvPr>
        </p:nvSpPr>
        <p:spPr/>
        <p:txBody>
          <a:bodyPr/>
          <a:p>
            <a:fld id="{8857BAEB-67DD-44D5-9708-A3DC3394FD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2D79B6C-D38F-4CA8-B559-9E0A4BBA920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81BDBB-FC1C-4A79-A902-F9A3297AC1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25A1AA-A1C9-4063-936C-3F50C7950C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D9354-1CE4-4CAB-95C1-0BC8D2E4A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19FFDF5-FE85-4606-BEC0-593E7E7D6D2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95F096-F1AE-40AB-B0D3-99C6F5B9BAB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E32E882-BD62-4CD5-B138-CBB689D8C76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2984078-FD34-4E8F-8325-DBF511B686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961853-70A8-4D41-BB0C-A50CD8FA16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C16191-17E6-4F95-990C-349F6BBF1C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C4D6691-5BA1-41F9-88F0-79FD4613E2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5B480D5-8DF2-4485-95BD-B7EC988ACEE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E3D1F67-AE51-4E27-94DF-013B95B2FDE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8E647BB-07AF-430E-8EE8-A3F8F0DE210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E5242-F4C7-44F1-9E57-606068A4E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F04B1C0-E8CF-446A-9A51-304C0B6088E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3E6064-84FF-4347-B4C0-3D8BB893139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EA4AF31-E401-465E-8432-630448171B5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CF5BD56-224A-4726-B614-A71A2DB3A8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5B3F50C-2D0C-49BA-9C2E-B0F27127723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A28C37F-9622-4466-83D3-33988420B0E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9112A4F-FDCE-406E-8E7A-59625B96664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63D7192-FAFE-4022-9BDC-11962AEBFC2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EDE28C7-2AB0-41E6-9FDA-B1FEDEAD293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03A6200-644C-46D8-AB68-813BCB91E81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B8C16-717C-49BD-A739-01C2BC97D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CD8133F-7983-4318-A335-52411526BE3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580136B-3BE7-43CC-8BC2-9A4EB3E820F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AB11D85-FDDD-4880-B99C-5AFB89DEC3F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CD18AE6-FDF2-4CDB-A480-33E5F8FDF29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EF5AE0-3445-4183-8BB6-3119B20C71F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50098A6-0CA7-4296-9762-0E0EFCABA68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9CF5DEB-B468-4323-8C1A-F72DC52BBD0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6A14BF6-2084-4FF1-AD9F-C10789F6C36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092903-1D85-400E-B8FE-10F4769F3C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1AA1353-CD02-4977-A90B-C984B1C1949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D6857-BD15-40FB-8280-040B15C02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9B3B63E-12AE-45B4-9BC8-5CBD452A3B5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601B71D-2378-4C6E-887C-72C2E46F0E2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D51E5D3-DC83-4CEC-8522-848B3B15A13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3BEC2-C531-4169-A731-77D015614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D5BF7-67CB-4EFB-B38F-C2739C951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59249-9FFD-4D2B-870B-7CFE32B0F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6BF2B-A787-487C-8751-1E86F6BC7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B8311-4653-4C89-94CF-9D3FD4B82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2B4C6-DD45-4BB9-BD52-DDA40199F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30B908-43E1-4F77-A936-294648D114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8B4D96-161E-4A46-8986-0AA3668F26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AC810E-4BBD-4C24-9118-038F3C800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8054DE-23C2-418E-8EBC-2C865E6F18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BB31E2-E7A9-4AA9-ACCB-3A8FBDDDE4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C3375-60E5-4C67-867E-3E2F4BD6A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94283D-63F7-4964-9749-452E80F3B0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3337FA-4F9D-4E67-BD98-FD34EADC1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6E4AC-F550-4660-8605-5BA9E63E22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698F8-8AE7-415E-BA31-0CFE7FF5B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EAE34F-F83A-47F7-A79C-E34E11CA6B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8F8AA4-8025-4969-B3FF-F717EC7B29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3C2DD0-A102-4F34-87B9-75F4524C37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9644B5-7DBD-449C-B4AE-298DB68A88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C685FE-16E1-4DC1-8659-63005100F0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9B3D6C-6A22-442D-AC94-CE9C7DAEC1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37074-1D24-4EAC-B3D8-10EA85D72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FC5ACC-BD96-4746-AB24-9CA1F2C6A6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C1C4E0-E379-4D47-B0E1-8F603DC36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E004A4-4675-45E8-9793-470EB29F42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AAFEF2-74B9-44DD-8B61-FFA65EEA04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B27F57-7927-49B6-B316-D887C9B8F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F08A0A-352E-47EE-95E6-04746052D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EF60C3-E51B-465E-A800-241DD47E2F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B16526-E7FF-4C2E-8D52-A83D1BC591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F526D2-E46D-4ECB-BAFC-0D2AC01F88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6D696D5B-206B-46CA-8123-29C6D65E69A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65CC0-9478-414D-B6E5-4C65A759F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886DA4FC-02D4-4B49-9B05-5F2003E66D1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2998BEC6-6D34-4E3D-9237-E26928B16A1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1E67D424-3C6F-40AF-BBB7-FEA2A65ED29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D1683C78-2DCC-45FC-90CB-89CC320C0C1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3ACB7D23-F5E2-40CF-872E-0114E7A9031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221895C2-C5C6-4F25-A12A-8ED39D0F3E3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AE63F247-EBA4-489F-9693-7ED399ACB89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1F6E697C-4EFA-487B-8968-9C4E9591B87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CABF0720-9CE2-42A9-9664-1B87717327B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F950DA81-8D11-4087-B030-8AE072D6500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02B34-EDA8-40AC-A325-A1CAB56A8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6CE0C204-59A7-4048-AB61-A066E964859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A1174D-AA6E-44F1-B73C-ABB443E8D8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B41627-67EA-4DA2-BA18-2C61A793A6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04B09B-B454-4952-9714-1FCF9D37AD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DE481C-465D-46AE-93B9-D54E48A1F9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30A43F-71EA-40DE-936B-3AA9A998C0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B49B3B-D303-4A52-A799-E8CA581BC0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CACFF8-CB7A-4D04-98CE-FE27BA9330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AA3AD0-12A0-4C3A-9D68-E1E737B3AB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D39EE1-DD7D-4399-9CF3-E13BE79907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503C3-C3D2-4BDC-9202-1802C7142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A2C9BD-4AF6-4FE9-BD15-1A4007437C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FE9C79-63C0-441D-9315-C0F1E953B1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B010B5-7CE7-48A1-9C00-568EC19585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B0DFC0-DE90-496E-9A80-A7D27B63DF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078637-9E03-4F26-9FA3-23D26FE567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8993DE-2B1E-49F5-98A4-B0C4716AA4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531F0E-A99D-4AEE-9D55-66F10F63EA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0341E7-C8B9-4B19-A0D5-479AC345E3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7A019F-F4D4-4A85-8F31-D0BD9B5F37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20BD46-1395-4716-8D7F-4886CCC73A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12EEA-A573-4E51-91FC-BD9DD894E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2FF9A1-FD35-4CA4-B831-99B862F028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1A8E33-7619-47F7-B98E-749844A1CF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E24958-539C-4693-93D1-588F0625A7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14D939-E910-468B-A645-D513313430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7D3489-A6E3-4702-8806-0992DAE322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6C1AE7-52BC-4220-A193-0457CA146F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765BA6-CFCF-4D53-ADDF-C6037C2C10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8BE511-4D68-478F-ADA5-142598EFD5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24D54E-BF4F-4A8B-B27A-23682AD550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325DE2-42FE-4570-906A-7872160D6A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7283B-E3A7-4B5B-9F16-F035E9B16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E73F9E-71D5-4E4E-BDF9-4FBFC32FE8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6CF582-DC2C-4836-9C17-4CDAF0F1B0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E49819-C0B9-4EEE-842C-A00640F44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67D33D-1845-4EBB-AF3B-D37C49F8E0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7C3790-0EC7-49B5-8C1B-0573521CA1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C7EEC9-5F02-4ECD-B45F-9180F38123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AD0912-9033-4211-8D7E-D4240C8D44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01AE26-2DB8-4A89-A98F-C3879A82C1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D26545-5879-48BD-A702-AD68B97348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133787-97CD-48B5-8BFE-3BC700E5FD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D43D-A645-4573-8535-70995EE137B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5"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78BB-EC28-4031-A8D2-6E492BA6374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6" name="PlaceHolder 4"/>
          <p:cNvSpPr>
            <a:spLocks noGrp="1"/>
          </p:cNvSpPr>
          <p:nvPr>
            <p:ph type="dt" idx="2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5"/>
          <p:cNvSpPr>
            <a:spLocks noGrp="1"/>
          </p:cNvSpPr>
          <p:nvPr>
            <p:ph type="ftr" idx="30"/>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sldNum" idx="3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3937-4088-4B93-ACDE-6B7B05210F4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18" name="PlaceHolder 4"/>
          <p:cNvSpPr>
            <a:spLocks noGrp="1"/>
          </p:cNvSpPr>
          <p:nvPr>
            <p:ph type="dt" idx="32"/>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5"/>
          <p:cNvSpPr>
            <a:spLocks noGrp="1"/>
          </p:cNvSpPr>
          <p:nvPr>
            <p:ph type="ftr" idx="33"/>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dt" idx="3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PlaceHolder 4"/>
          <p:cNvSpPr>
            <a:spLocks noGrp="1"/>
          </p:cNvSpPr>
          <p:nvPr>
            <p:ph type="ftr" idx="3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5"/>
          <p:cNvSpPr>
            <a:spLocks noGrp="1"/>
          </p:cNvSpPr>
          <p:nvPr>
            <p:ph type="sldNum" idx="3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EBC4-AD1E-4CB9-A013-F4DB421BAEA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0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sldNum" idx="37"/>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FC1B-DF25-4FDA-8D56-216B6494A3C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618" name="PlaceHolder 4"/>
          <p:cNvSpPr>
            <a:spLocks noGrp="1"/>
          </p:cNvSpPr>
          <p:nvPr>
            <p:ph type="dt" idx="38"/>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PlaceHolder 5"/>
          <p:cNvSpPr>
            <a:spLocks noGrp="1"/>
          </p:cNvSpPr>
          <p:nvPr>
            <p:ph type="ftr" idx="3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5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658" name="Group 1"/>
          <p:cNvGrpSpPr/>
          <p:nvPr/>
        </p:nvGrpSpPr>
        <p:grpSpPr>
          <a:xfrm>
            <a:off x="-19080" y="203040"/>
            <a:ext cx="9181080" cy="648000"/>
            <a:chOff x="-19080" y="203040"/>
            <a:chExt cx="9181080" cy="648000"/>
          </a:xfrm>
        </p:grpSpPr>
        <p:grpSp>
          <p:nvGrpSpPr>
            <p:cNvPr id="659" name="Freeform 11"/>
            <p:cNvGrpSpPr/>
            <p:nvPr/>
          </p:nvGrpSpPr>
          <p:grpSpPr>
            <a:xfrm>
              <a:off x="-19080" y="203040"/>
              <a:ext cx="9162720" cy="648000"/>
              <a:chOff x="-19080" y="203040"/>
              <a:chExt cx="9162720" cy="648000"/>
            </a:xfrm>
          </p:grpSpPr>
          <p:pic>
            <p:nvPicPr>
              <p:cNvPr id="660" name="Freeform 11" descr=""/>
              <p:cNvPicPr/>
              <p:nvPr/>
            </p:nvPicPr>
            <p:blipFill>
              <a:blip r:embed="rId3"/>
              <a:stretch/>
            </p:blipFill>
            <p:spPr>
              <a:xfrm>
                <a:off x="3960" y="203040"/>
                <a:ext cx="9139680" cy="648000"/>
              </a:xfrm>
              <a:prstGeom prst="rect">
                <a:avLst/>
              </a:prstGeom>
              <a:ln w="0">
                <a:noFill/>
              </a:ln>
            </p:spPr>
          </p:pic>
          <p:sp>
            <p:nvSpPr>
              <p:cNvPr id="66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nvGrpSpPr>
            <p:cNvPr id="662" name="Freeform 12"/>
            <p:cNvGrpSpPr/>
            <p:nvPr/>
          </p:nvGrpSpPr>
          <p:grpSpPr>
            <a:xfrm>
              <a:off x="-19080" y="248040"/>
              <a:ext cx="9181080" cy="565200"/>
              <a:chOff x="-19080" y="248040"/>
              <a:chExt cx="9181080" cy="565200"/>
            </a:xfrm>
          </p:grpSpPr>
          <p:pic>
            <p:nvPicPr>
              <p:cNvPr id="663" name="Freeform 12" descr=""/>
              <p:cNvPicPr/>
              <p:nvPr/>
            </p:nvPicPr>
            <p:blipFill>
              <a:blip r:embed="rId4"/>
              <a:stretch/>
            </p:blipFill>
            <p:spPr>
              <a:xfrm>
                <a:off x="-3240" y="248040"/>
                <a:ext cx="9165240" cy="565200"/>
              </a:xfrm>
              <a:prstGeom prst="rect">
                <a:avLst/>
              </a:prstGeom>
              <a:ln w="0">
                <a:noFill/>
              </a:ln>
            </p:spPr>
          </p:pic>
          <p:sp>
            <p:nvSpPr>
              <p:cNvPr id="66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sp>
        <p:nvSpPr>
          <p:cNvPr id="6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Click to edit the outline text format</a:t>
            </a:r>
            <a:endParaRPr b="0" lang="en-US" sz="2600" spc="-1" strike="noStrike">
              <a:solidFill>
                <a:srgbClr val="dbf5f9"/>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Second Outline Level</a:t>
            </a:r>
            <a:endParaRPr b="0" lang="en-US" sz="2600" spc="-1" strike="noStrike">
              <a:solidFill>
                <a:srgbClr val="dbf5f9"/>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Third Outline Level</a:t>
            </a:r>
            <a:endParaRPr b="0" lang="en-US" sz="2600" spc="-1" strike="noStrike">
              <a:solidFill>
                <a:srgbClr val="dbf5f9"/>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Fourth Outline Level</a:t>
            </a:r>
            <a:endParaRPr b="0" lang="en-US" sz="2600" spc="-1" strike="noStrike">
              <a:solidFill>
                <a:srgbClr val="dbf5f9"/>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Fifth Outline Level</a:t>
            </a:r>
            <a:endParaRPr b="0" lang="en-US" sz="2600" spc="-1" strike="noStrike">
              <a:solidFill>
                <a:srgbClr val="dbf5f9"/>
              </a:solidFill>
              <a:latin typeface="Constantia"/>
            </a:endParaRPr>
          </a:p>
          <a:p>
            <a:pPr lvl="5" marL="1461960" indent="-209520">
              <a:spcBef>
                <a:spcPts val="649"/>
              </a:spcBef>
              <a:buClr>
                <a:srgbClr val="dbf5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Sixth Outline Level</a:t>
            </a:r>
            <a:endParaRPr b="0" lang="en-US" sz="2600" spc="-1" strike="noStrike">
              <a:solidFill>
                <a:srgbClr val="dbf5f9"/>
              </a:solidFill>
              <a:latin typeface="Constantia"/>
            </a:endParaRPr>
          </a:p>
          <a:p>
            <a:pPr lvl="6" marL="1461960" indent="-209520">
              <a:spcBef>
                <a:spcPts val="649"/>
              </a:spcBef>
              <a:buClr>
                <a:srgbClr val="dbf5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Seventh Outline Level</a:t>
            </a:r>
            <a:endParaRPr b="0" lang="en-US" sz="2600" spc="-1" strike="noStrike">
              <a:solidFill>
                <a:srgbClr val="dbf5f9"/>
              </a:solidFill>
              <a:latin typeface="Constantia"/>
            </a:endParaRPr>
          </a:p>
        </p:txBody>
      </p:sp>
      <p:sp>
        <p:nvSpPr>
          <p:cNvPr id="667"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8CCEC-1588-4946-A5BA-FA6F859D2B7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708" name="Group 1"/>
          <p:cNvGrpSpPr/>
          <p:nvPr/>
        </p:nvGrpSpPr>
        <p:grpSpPr>
          <a:xfrm>
            <a:off x="-19080" y="203040"/>
            <a:ext cx="9181080" cy="648000"/>
            <a:chOff x="-19080" y="203040"/>
            <a:chExt cx="9181080" cy="648000"/>
          </a:xfrm>
        </p:grpSpPr>
        <p:grpSp>
          <p:nvGrpSpPr>
            <p:cNvPr id="709" name="Freeform 11"/>
            <p:cNvGrpSpPr/>
            <p:nvPr/>
          </p:nvGrpSpPr>
          <p:grpSpPr>
            <a:xfrm>
              <a:off x="-19080" y="203040"/>
              <a:ext cx="9162720" cy="648000"/>
              <a:chOff x="-19080" y="203040"/>
              <a:chExt cx="9162720" cy="648000"/>
            </a:xfrm>
          </p:grpSpPr>
          <p:pic>
            <p:nvPicPr>
              <p:cNvPr id="710" name="Freeform 11" descr=""/>
              <p:cNvPicPr/>
              <p:nvPr/>
            </p:nvPicPr>
            <p:blipFill>
              <a:blip r:embed="rId3"/>
              <a:stretch/>
            </p:blipFill>
            <p:spPr>
              <a:xfrm>
                <a:off x="3960" y="203040"/>
                <a:ext cx="9139680" cy="648000"/>
              </a:xfrm>
              <a:prstGeom prst="rect">
                <a:avLst/>
              </a:prstGeom>
              <a:ln w="0">
                <a:noFill/>
              </a:ln>
            </p:spPr>
          </p:pic>
          <p:sp>
            <p:nvSpPr>
              <p:cNvPr id="7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nvGrpSpPr>
            <p:cNvPr id="712" name="Freeform 12"/>
            <p:cNvGrpSpPr/>
            <p:nvPr/>
          </p:nvGrpSpPr>
          <p:grpSpPr>
            <a:xfrm>
              <a:off x="-19080" y="248040"/>
              <a:ext cx="9181080" cy="565200"/>
              <a:chOff x="-19080" y="248040"/>
              <a:chExt cx="9181080" cy="565200"/>
            </a:xfrm>
          </p:grpSpPr>
          <p:pic>
            <p:nvPicPr>
              <p:cNvPr id="713" name="Freeform 12" descr=""/>
              <p:cNvPicPr/>
              <p:nvPr/>
            </p:nvPicPr>
            <p:blipFill>
              <a:blip r:embed="rId4"/>
              <a:stretch/>
            </p:blipFill>
            <p:spPr>
              <a:xfrm>
                <a:off x="-3240" y="248040"/>
                <a:ext cx="9165240" cy="565200"/>
              </a:xfrm>
              <a:prstGeom prst="rect">
                <a:avLst/>
              </a:prstGeom>
              <a:ln w="0">
                <a:noFill/>
              </a:ln>
            </p:spPr>
          </p:pic>
          <p:sp>
            <p:nvSpPr>
              <p:cNvPr id="7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sp>
        <p:nvSpPr>
          <p:cNvPr id="7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Click to edit the outline text format</a:t>
            </a:r>
            <a:endParaRPr b="0" lang="en-US" sz="2600" spc="-1" strike="noStrike">
              <a:solidFill>
                <a:srgbClr val="dbf5f9"/>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Second Outline Level</a:t>
            </a:r>
            <a:endParaRPr b="0" lang="en-US" sz="2600" spc="-1" strike="noStrike">
              <a:solidFill>
                <a:srgbClr val="dbf5f9"/>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Third Outline Level</a:t>
            </a:r>
            <a:endParaRPr b="0" lang="en-US" sz="2600" spc="-1" strike="noStrike">
              <a:solidFill>
                <a:srgbClr val="dbf5f9"/>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Fourth Outline Level</a:t>
            </a:r>
            <a:endParaRPr b="0" lang="en-US" sz="2600" spc="-1" strike="noStrike">
              <a:solidFill>
                <a:srgbClr val="dbf5f9"/>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Fifth Outline Level</a:t>
            </a:r>
            <a:endParaRPr b="0" lang="en-US" sz="2600" spc="-1" strike="noStrike">
              <a:solidFill>
                <a:srgbClr val="dbf5f9"/>
              </a:solidFill>
              <a:latin typeface="Constantia"/>
            </a:endParaRPr>
          </a:p>
          <a:p>
            <a:pPr lvl="5" marL="1461960" indent="-209520">
              <a:spcBef>
                <a:spcPts val="649"/>
              </a:spcBef>
              <a:buClr>
                <a:srgbClr val="dbf5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Sixth Outline Level</a:t>
            </a:r>
            <a:endParaRPr b="0" lang="en-US" sz="2600" spc="-1" strike="noStrike">
              <a:solidFill>
                <a:srgbClr val="dbf5f9"/>
              </a:solidFill>
              <a:latin typeface="Constantia"/>
            </a:endParaRPr>
          </a:p>
          <a:p>
            <a:pPr lvl="6" marL="1461960" indent="-209520">
              <a:spcBef>
                <a:spcPts val="649"/>
              </a:spcBef>
              <a:buClr>
                <a:srgbClr val="dbf5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bf5f9"/>
                </a:solidFill>
                <a:latin typeface="Constantia"/>
              </a:rPr>
              <a:t>Seventh Outline Level</a:t>
            </a:r>
            <a:endParaRPr b="0" lang="en-US" sz="2600" spc="-1" strike="noStrike">
              <a:solidFill>
                <a:srgbClr val="dbf5f9"/>
              </a:solidFill>
              <a:latin typeface="Constantia"/>
            </a:endParaRPr>
          </a:p>
        </p:txBody>
      </p:sp>
      <p:sp>
        <p:nvSpPr>
          <p:cNvPr id="717"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571A-9705-4CC2-B2BC-E7DB6B2F909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6"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7"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59"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62" name="PlaceHolder 3"/>
          <p:cNvSpPr>
            <a:spLocks noGrp="1"/>
          </p:cNvSpPr>
          <p:nvPr>
            <p:ph type="dt" idx="4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PlaceHolder 4"/>
          <p:cNvSpPr>
            <a:spLocks noGrp="1"/>
          </p:cNvSpPr>
          <p:nvPr>
            <p:ph type="ftr" idx="4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PlaceHolder 5"/>
          <p:cNvSpPr>
            <a:spLocks noGrp="1"/>
          </p:cNvSpPr>
          <p:nvPr>
            <p:ph type="sldNum" idx="48"/>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0659-4DA8-436B-B527-67B2DBA8E8E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4"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7754-6E61-41EC-A24E-8BFF86F0888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57" name="Group 1"/>
          <p:cNvGrpSpPr/>
          <p:nvPr/>
        </p:nvGrpSpPr>
        <p:grpSpPr>
          <a:xfrm>
            <a:off x="-19080" y="203040"/>
            <a:ext cx="9181080" cy="648000"/>
            <a:chOff x="-19080" y="203040"/>
            <a:chExt cx="9181080" cy="648000"/>
          </a:xfrm>
        </p:grpSpPr>
        <p:grpSp>
          <p:nvGrpSpPr>
            <p:cNvPr id="58" name="Freeform 11"/>
            <p:cNvGrpSpPr/>
            <p:nvPr/>
          </p:nvGrpSpPr>
          <p:grpSpPr>
            <a:xfrm>
              <a:off x="-19080" y="203040"/>
              <a:ext cx="9162720" cy="648000"/>
              <a:chOff x="-19080" y="203040"/>
              <a:chExt cx="9162720" cy="648000"/>
            </a:xfrm>
          </p:grpSpPr>
          <p:pic>
            <p:nvPicPr>
              <p:cNvPr id="59" name="Freeform 11" descr=""/>
              <p:cNvPicPr/>
              <p:nvPr/>
            </p:nvPicPr>
            <p:blipFill>
              <a:blip r:embed="rId3"/>
              <a:stretch/>
            </p:blipFill>
            <p:spPr>
              <a:xfrm>
                <a:off x="3960" y="203040"/>
                <a:ext cx="9139680" cy="648000"/>
              </a:xfrm>
              <a:prstGeom prst="rect">
                <a:avLst/>
              </a:prstGeom>
              <a:ln w="0">
                <a:noFill/>
              </a:ln>
            </p:spPr>
          </p:pic>
          <p:sp>
            <p:nvSpPr>
              <p:cNvPr id="6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nvGrpSpPr>
            <p:cNvPr id="61" name="Freeform 12"/>
            <p:cNvGrpSpPr/>
            <p:nvPr/>
          </p:nvGrpSpPr>
          <p:grpSpPr>
            <a:xfrm>
              <a:off x="-19080" y="248040"/>
              <a:ext cx="9181080" cy="565200"/>
              <a:chOff x="-19080" y="248040"/>
              <a:chExt cx="9181080" cy="565200"/>
            </a:xfrm>
          </p:grpSpPr>
          <p:pic>
            <p:nvPicPr>
              <p:cNvPr id="62" name="Freeform 12" descr=""/>
              <p:cNvPicPr/>
              <p:nvPr/>
            </p:nvPicPr>
            <p:blipFill>
              <a:blip r:embed="rId4"/>
              <a:stretch/>
            </p:blipFill>
            <p:spPr>
              <a:xfrm>
                <a:off x="-3240" y="248040"/>
                <a:ext cx="9165240" cy="565200"/>
              </a:xfrm>
              <a:prstGeom prst="rect">
                <a:avLst/>
              </a:prstGeom>
              <a:ln w="0">
                <a:noFill/>
              </a:ln>
            </p:spPr>
          </p:pic>
          <p:sp>
            <p:nvSpPr>
              <p:cNvPr id="6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C39C-14C5-4C05-8739-DEE5E2B79A0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5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1" name="PlaceHolder 3"/>
          <p:cNvSpPr>
            <a:spLocks noGrp="1"/>
          </p:cNvSpPr>
          <p:nvPr>
            <p:ph type="dt" idx="10"/>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type="ftr" idx="1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type="sldNum" idx="12"/>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04E2-143B-4CAC-91F3-4E84566670B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3" name="PlaceHolder 3"/>
          <p:cNvSpPr>
            <a:spLocks noGrp="1"/>
          </p:cNvSpPr>
          <p:nvPr>
            <p:ph type="ftr" idx="1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4"/>
          <p:cNvSpPr>
            <a:spLocks noGrp="1"/>
          </p:cNvSpPr>
          <p:nvPr>
            <p:ph type="dt" idx="1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5"/>
          <p:cNvSpPr>
            <a:spLocks noGrp="1"/>
          </p:cNvSpPr>
          <p:nvPr>
            <p:ph type="sldNum" idx="15"/>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0042-47C3-4E5D-8307-9EC35120218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4" name="PlaceHolder 3"/>
          <p:cNvSpPr>
            <a:spLocks noGrp="1"/>
          </p:cNvSpPr>
          <p:nvPr>
            <p:ph type="dt" idx="16"/>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5"/>
          <p:cNvSpPr>
            <a:spLocks noGrp="1"/>
          </p:cNvSpPr>
          <p:nvPr>
            <p:ph type="sldNum" idx="18"/>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697F-F162-46D7-B01D-CBD87C9B5F0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0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7BB7-CF43-42DC-B4BD-663DE65C4FC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6"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5"/>
          <p:cNvSpPr>
            <a:spLocks noGrp="1"/>
          </p:cNvSpPr>
          <p:nvPr>
            <p:ph type="sldNum" idx="24"/>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C524-8A30-4DBA-85E1-46C206A12D1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3" name="PlaceHolder 3"/>
          <p:cNvSpPr>
            <a:spLocks noGrp="1"/>
          </p:cNvSpPr>
          <p:nvPr>
            <p:ph type="dt" idx="2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4"/>
          <p:cNvSpPr>
            <a:spLocks noGrp="1"/>
          </p:cNvSpPr>
          <p:nvPr>
            <p:ph type="ftr" idx="2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5"/>
          <p:cNvSpPr>
            <a:spLocks noGrp="1"/>
          </p:cNvSpPr>
          <p:nvPr>
            <p:ph type="sldNum" idx="27"/>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A98FB-810D-443E-B2A7-0286FB3ACB1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371600" y="1828800"/>
            <a:ext cx="6400800" cy="373392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UTHOR: NASABANJI E. PHIRI</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HANNAH S. AND AMANDA V.</a:t>
            </a:r>
            <a:endParaRPr b="0" lang="en-US" sz="1600" spc="-1" strike="noStrike">
              <a:solidFill>
                <a:srgbClr val="000000"/>
              </a:solidFill>
              <a:latin typeface="Georgia"/>
            </a:endParaRPr>
          </a:p>
        </p:txBody>
      </p:sp>
      <p:sp>
        <p:nvSpPr>
          <p:cNvPr id="802" name="PlaceHolder 2"/>
          <p:cNvSpPr>
            <a:spLocks noGrp="1"/>
          </p:cNvSpPr>
          <p:nvPr>
            <p:ph type="title"/>
          </p:nvPr>
        </p:nvSpPr>
        <p:spPr>
          <a:xfrm>
            <a:off x="457200" y="456840"/>
            <a:ext cx="7772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200" spc="-1" strike="noStrike">
                <a:solidFill>
                  <a:srgbClr val="d16349"/>
                </a:solidFill>
                <a:latin typeface="Georgia"/>
              </a:rPr>
              <a:t>Not At All</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4617b"/>
                </a:solidFill>
                <a:latin typeface="Calibri"/>
              </a:rPr>
              <a:t>T-Title</a:t>
            </a:r>
            <a:endParaRPr b="0" lang="en-US" sz="6600" spc="-1" strike="noStrike">
              <a:solidFill>
                <a:srgbClr val="04617b"/>
              </a:solidFill>
              <a:latin typeface="Calibri"/>
            </a:endParaRPr>
          </a:p>
        </p:txBody>
      </p:sp>
      <p:sp>
        <p:nvSpPr>
          <p:cNvPr id="82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3200" spc="-1" strike="noStrike">
                <a:solidFill>
                  <a:srgbClr val="000000"/>
                </a:solidFill>
                <a:latin typeface="Constantia"/>
              </a:rPr>
              <a:t>We think the poem is titled “Not At All” because some people think AIDS isn’t a major issue, they are afraid of how it can effect people. In reality, it is an disease that is very harmful but preventable. AIDS is “not at all” like any of the other diseases the speakers described in our poem.</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4617b"/>
                </a:solidFill>
                <a:latin typeface="Calibri"/>
              </a:rPr>
              <a:t>T-Theme</a:t>
            </a:r>
            <a:endParaRPr b="0" lang="en-US" sz="6000" spc="-1" strike="noStrike">
              <a:solidFill>
                <a:srgbClr val="04617b"/>
              </a:solidFill>
              <a:latin typeface="Calibri"/>
            </a:endParaRPr>
          </a:p>
        </p:txBody>
      </p:sp>
      <p:sp>
        <p:nvSpPr>
          <p:cNvPr id="8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3600" spc="-1" strike="noStrike">
                <a:solidFill>
                  <a:srgbClr val="000000"/>
                </a:solidFill>
                <a:latin typeface="Constantia"/>
              </a:rPr>
              <a:t>We think the theme of this poem is to be aware of AIDS and to know how it can effect you. It is important to know that once you get AIDS you can’t get rid of i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Title </a:t>
            </a:r>
            <a:endParaRPr b="0" lang="en-US" sz="5000" spc="-1" strike="noStrike">
              <a:solidFill>
                <a:srgbClr val="04617b"/>
              </a:solidFill>
              <a:latin typeface="Calibri"/>
            </a:endParaRPr>
          </a:p>
        </p:txBody>
      </p:sp>
      <p:sp>
        <p:nvSpPr>
          <p:cNvPr id="8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title of our poem is “Not At Al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ur prediction using the title is that the person in the story doesn’t want to believe AIDS exists because they are afraid of how it can effect peopl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Paraphrase</a:t>
            </a:r>
            <a:endParaRPr b="0" lang="en-US" sz="5000" spc="-1" strike="noStrike">
              <a:solidFill>
                <a:srgbClr val="04617b"/>
              </a:solidFill>
              <a:latin typeface="Calibri"/>
            </a:endParaRPr>
          </a:p>
        </p:txBody>
      </p:sp>
      <p:sp>
        <p:nvSpPr>
          <p:cNvPr id="8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granddaughter is talking about AIDS to her grandmother. She is explaining AIDS is not the same as other diseases. You can’t be treated for AIDS where as most other diseases there is treatmen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520"/>
            <a:ext cx="8229600" cy="16765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     </a:t>
            </a:r>
            <a:r>
              <a:rPr b="0" lang="en-US" sz="4900" spc="-1" strike="noStrike">
                <a:solidFill>
                  <a:srgbClr val="04617b"/>
                </a:solidFill>
                <a:latin typeface="Calibri"/>
              </a:rPr>
              <a:t>C- Connotation ( Unknown      Words)</a:t>
            </a:r>
            <a:endParaRPr b="0" lang="en-US" sz="4900" spc="-1" strike="noStrike">
              <a:solidFill>
                <a:srgbClr val="04617b"/>
              </a:solidFill>
              <a:latin typeface="Calibri"/>
            </a:endParaRPr>
          </a:p>
        </p:txBody>
      </p:sp>
      <p:sp>
        <p:nvSpPr>
          <p:cNvPr id="808"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r>
              <a:rPr b="1" lang="en-US" sz="3600" spc="-1" strike="noStrike">
                <a:solidFill>
                  <a:srgbClr val="000000"/>
                </a:solidFill>
                <a:latin typeface="Constantia"/>
              </a:rPr>
              <a:t>Regressing</a:t>
            </a:r>
            <a:r>
              <a:rPr b="0" lang="en-US" sz="3600" spc="-1" strike="noStrike">
                <a:solidFill>
                  <a:srgbClr val="000000"/>
                </a:solidFill>
                <a:latin typeface="Constantia"/>
              </a:rPr>
              <a:t>: Sentence in which is was used- </a:t>
            </a:r>
            <a:endParaRPr b="0" lang="en-US" sz="3600" spc="-1" strike="noStrike">
              <a:solidFill>
                <a:srgbClr val="000000"/>
              </a:solidFill>
              <a:latin typeface="Constantia"/>
            </a:endParaRPr>
          </a:p>
          <a:p>
            <a:pPr marL="253440" indent="-253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r>
              <a:rPr b="0" lang="en-US" sz="3600" spc="-1" strike="noStrike">
                <a:solidFill>
                  <a:srgbClr val="000000"/>
                </a:solidFill>
                <a:latin typeface="Constantia"/>
              </a:rPr>
              <a:t>It is like a thorn that pricks continuously, piercing the flesh and not </a:t>
            </a:r>
            <a:r>
              <a:rPr b="1" lang="en-US" sz="3600" spc="-1" strike="noStrike">
                <a:solidFill>
                  <a:srgbClr val="000000"/>
                </a:solidFill>
                <a:latin typeface="Constantia"/>
              </a:rPr>
              <a:t>regressing</a:t>
            </a:r>
            <a:r>
              <a:rPr b="0" lang="en-US" sz="3600" spc="-1" strike="noStrike">
                <a:solidFill>
                  <a:srgbClr val="000000"/>
                </a:solidFill>
                <a:latin typeface="Constantia"/>
              </a:rPr>
              <a:t>.”</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Meaning: to move backward; go back </a:t>
            </a:r>
            <a:endParaRPr b="0" lang="en-US" sz="3600" spc="-1" strike="noStrike">
              <a:solidFill>
                <a:srgbClr val="000000"/>
              </a:solidFill>
              <a:latin typeface="Constantia"/>
            </a:endParaRPr>
          </a:p>
          <a:p>
            <a:pPr marL="253440" indent="-253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4617b"/>
                </a:solidFill>
                <a:latin typeface="Calibri"/>
              </a:rPr>
              <a:t>Unknown Words Cont.</a:t>
            </a:r>
            <a:endParaRPr b="0" lang="en-US" sz="6600" spc="-1" strike="noStrike">
              <a:solidFill>
                <a:srgbClr val="04617b"/>
              </a:solidFill>
              <a:latin typeface="Calibri"/>
            </a:endParaRPr>
          </a:p>
        </p:txBody>
      </p:sp>
      <p:sp>
        <p:nvSpPr>
          <p:cNvPr id="8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Mamba</a:t>
            </a:r>
            <a:r>
              <a:rPr b="0" lang="en-US" sz="3600" spc="-1" strike="noStrike">
                <a:solidFill>
                  <a:srgbClr val="000000"/>
                </a:solidFill>
                <a:latin typeface="Constantia"/>
              </a:rPr>
              <a:t>: Sentence in which it is used-</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r>
              <a:rPr b="0" lang="en-US" sz="3600" spc="-1" strike="noStrike">
                <a:solidFill>
                  <a:srgbClr val="000000"/>
                </a:solidFill>
                <a:latin typeface="Constantia"/>
              </a:rPr>
              <a:t>It is like the </a:t>
            </a:r>
            <a:r>
              <a:rPr b="1" lang="en-US" sz="3600" spc="-1" strike="noStrike">
                <a:solidFill>
                  <a:srgbClr val="000000"/>
                </a:solidFill>
                <a:latin typeface="Constantia"/>
              </a:rPr>
              <a:t>mamba</a:t>
            </a:r>
            <a:r>
              <a:rPr b="0" lang="en-US" sz="3600" spc="-1" strike="noStrike">
                <a:solidFill>
                  <a:srgbClr val="000000"/>
                </a:solidFill>
                <a:latin typeface="Constantia"/>
              </a:rPr>
              <a:t> whose deathly strike paralyses the heart instantly.”</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r>
              <a:rPr b="0" lang="en-US" sz="3600" spc="-1" strike="noStrike">
                <a:solidFill>
                  <a:srgbClr val="000000"/>
                </a:solidFill>
                <a:latin typeface="Constantia"/>
              </a:rPr>
              <a:t>Meaning: An aggressive, venomous, elapid African snak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 Connotation </a:t>
            </a:r>
            <a:endParaRPr b="0" lang="en-US" sz="5000" spc="-1" strike="noStrike">
              <a:solidFill>
                <a:srgbClr val="04617b"/>
              </a:solidFill>
              <a:latin typeface="Calibri"/>
            </a:endParaRPr>
          </a:p>
        </p:txBody>
      </p:sp>
      <p:sp>
        <p:nvSpPr>
          <p:cNvPr id="8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imiles-  “ It is like the  mamba,” -  Once  it you get AIDS  you can’t get rid of i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 </a:t>
            </a:r>
            <a:r>
              <a:rPr b="0" lang="en-US" sz="2600" spc="-1" strike="noStrike">
                <a:solidFill>
                  <a:srgbClr val="000000"/>
                </a:solidFill>
                <a:latin typeface="Constantia"/>
              </a:rPr>
              <a:t>It is like a thorn that pricks continuousl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You don’t get used to having AID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is one is like a fire,”-  AIDS never  weaken  in your bod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0" y="6091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4617b"/>
                </a:solidFill>
                <a:latin typeface="Calibri"/>
              </a:rPr>
              <a:t>Connotations</a:t>
            </a:r>
            <a:endParaRPr b="0" lang="en-US" sz="6600" spc="-1" strike="noStrike">
              <a:solidFill>
                <a:srgbClr val="04617b"/>
              </a:solidFill>
              <a:latin typeface="Calibri"/>
            </a:endParaRPr>
          </a:p>
        </p:txBody>
      </p:sp>
      <p:sp>
        <p:nvSpPr>
          <p:cNvPr id="8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r>
              <a:rPr b="0" lang="en-US" sz="3600" spc="-1" strike="noStrike">
                <a:solidFill>
                  <a:srgbClr val="000000"/>
                </a:solidFill>
                <a:latin typeface="Constantia"/>
              </a:rPr>
              <a:t>Repetition- “Not  at  all.” AIDS is not like any other  diseases. The granddaughter  compares AIDS to other diseases and she says it is not at all like the rest of them because it doesn’t go away.</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4617b"/>
                </a:solidFill>
                <a:latin typeface="Calibri"/>
              </a:rPr>
              <a:t>A- Attitude</a:t>
            </a:r>
            <a:endParaRPr b="0" lang="en-US" sz="6600" spc="-1" strike="noStrike">
              <a:solidFill>
                <a:srgbClr val="04617b"/>
              </a:solidFill>
              <a:latin typeface="Calibri"/>
            </a:endParaRPr>
          </a:p>
        </p:txBody>
      </p:sp>
      <p:sp>
        <p:nvSpPr>
          <p:cNvPr id="816"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granddaughter’s attitude about AIDS is serious. She believes that you can not get rid of AIDS and that it is a very serious disease people have to be aware of. The granddaughter  wants to spread the word to others that once you get AIDS, you can’t get ride of it. </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poet’s attitude about AIDS is that people from the older days don’t realize that AIDS is different from the other horrible diseases in the past such as small pox. Today, more younger people receive the disease of AID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4617b"/>
                </a:solidFill>
                <a:latin typeface="Calibri"/>
              </a:rPr>
              <a:t>S- Shifts</a:t>
            </a:r>
            <a:endParaRPr b="0" lang="en-US" sz="6600" spc="-1" strike="noStrike">
              <a:solidFill>
                <a:srgbClr val="04617b"/>
              </a:solidFill>
              <a:latin typeface="Calibri"/>
            </a:endParaRPr>
          </a:p>
        </p:txBody>
      </p:sp>
      <p:sp>
        <p:nvSpPr>
          <p:cNvPr id="8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3200" spc="-1" strike="noStrike">
                <a:solidFill>
                  <a:srgbClr val="000000"/>
                </a:solidFill>
                <a:latin typeface="Constantia"/>
              </a:rPr>
              <a:t>In the beginning, the grandmother is confused about AIDS. She doesn’t quite get what AIDS is and how it can effect the body. After the granddaughter explains, the grandmother understands the risks and what it can do to the body.</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19:45:30Z</dcterms:created>
  <dc:creator>User</dc:creator>
  <dc:description/>
  <dc:language>en-US</dc:language>
  <cp:lastModifiedBy>954381</cp:lastModifiedBy>
  <dcterms:modified xsi:type="dcterms:W3CDTF">2010-11-17T19:56:56Z</dcterms:modified>
  <cp:revision>15</cp:revision>
  <dc:subject/>
  <dc:title>Not At All</dc:title>
</cp:coreProperties>
</file>